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E772-17A0-42BE-A356-329433234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9D6-D00D-407A-9926-2C2B8EADA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348-651A-4FEB-B8E5-74F2F54B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C9BF-0250-46C9-B0D5-F9D9F5179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0CC-CEDC-4EE6-BBF8-D02CDA5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C78-07A1-4861-97D9-61D1762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DE4-1943-476F-BFA2-24A9CBF1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578-270F-4EBC-A4E5-00D2CC02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ABC-8254-412F-BB31-314332C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829-0BD6-4072-BAFE-CE57735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31-67CC-4FE2-9C4C-3E2F01E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E08-35D3-48A0-AA72-7A87BFD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5AE-93E4-4E26-8CA6-FA3857B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3DD-AD15-4752-B31E-78914BF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8CB-9532-4A93-B02D-E0C941A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57E-BC1C-4F39-ADBA-16A8322B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26ED-6B04-4BB7-A79D-C111BE47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485160"/>
            <a:ext cx="88390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0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1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8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09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6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2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8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4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3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99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5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1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7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6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7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0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2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7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59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4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6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6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8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7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19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4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6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1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3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0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1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2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test</cp:lastModifiedBy>
  <dcterms:modified xsi:type="dcterms:W3CDTF">2014-10-22T18:15:01Z</dcterms:modified>
  <cp:revision>26</cp:revision>
  <dc:subject/>
  <dc:title>Functions</dc:title>
</cp:coreProperties>
</file>